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FUELBUBL%5B1%5D.wav" ContentType="audio/x-wav"/>
  <Override PartName="/ppt/media/image5.jpeg" ContentType="image/jpeg"/>
  <Override PartName="/ppt/media/image10.jpeg" ContentType="image/jpeg"/>
  <Override PartName="/ppt/media/glass.wav" ContentType="audio/x-wav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A70-D4A8-4E54-894C-CC875652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2FA4-F393-4687-BD90-9CE47422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7A27-541C-468A-AA91-8682359C2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0AE-2810-4934-88B6-BC0BAD30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FC80-F72C-4FD9-ABBE-3BE618E8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8505-E7B9-4264-8127-F0581DE4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AA52C-B725-452E-BE2F-0458FBBA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B923-4307-4CAA-86F9-8F105B1C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AA34-DA09-4CCC-971A-1C7A8409B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38EA-22D0-469A-B693-12810012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AB75-BE30-41E6-B09D-7B5DD9A2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390-7F8D-4C9E-95DB-CF297BD5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5268-D72B-4970-AF6F-75F3707E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15FA-0DAA-4746-B454-D7661E06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58C-B6C0-490A-AF55-19D7CFF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E3F3-6944-4AC5-A4F1-2B756007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5BC1-63B8-45F3-BFD1-DA3C19E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A90E-3C84-4570-86D4-ED159222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6C04-52B4-4264-8189-35E468D7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697-6E41-4834-8AEA-7447C13C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E591-D156-479F-BBDD-100B3001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C58-D7C5-4D9A-BD31-F1C73C40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1B5-5225-40C5-B7A7-F0CFA457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CF7-73AF-44A5-9D30-B840682A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5D8-C6F7-4D54-A273-8963C32B3AF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31BA-C062-4B56-A1F9-E03112164F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FUELBUBL%5B1%5D.wav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t 4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ter that does not have a definite shape or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are farther apart than in any other commo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be expanded or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reasing the volume (compressing) moves the molecules closer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SPECIAL PROPERTIES OF GASES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Nature of 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Particles can be monatomic (Ne), diatomic (N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, or polyatomic (C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ases have these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iff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rt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unt of pressure is dependent on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inetic Molecular The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to explain the behaviors and characteristics of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netic = motion, Molecular = partic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s that all gas particles are in constant and random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basic assumptions of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 is composed of small particles, but mostly empty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gas particles are in constant random 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molecular collisions, no energy is l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ses are Squeez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squeeze or compress a gas, its volume can be reduced considerab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es’ low density allows for lost of open space to be conden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:\My Documents\Jason's Misc Stuff\images\chemistry\compress.gif"/>
          <p:cNvPicPr/>
          <p:nvPr/>
        </p:nvPicPr>
        <p:blipFill>
          <a:blip r:embed="rId1"/>
          <a:stretch/>
        </p:blipFill>
        <p:spPr>
          <a:xfrm>
            <a:off x="5105520" y="1731960"/>
            <a:ext cx="325116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C:\My Documents\Lessons\unit plans\gas laws\phases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228600"/>
            <a:ext cx="800100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Popcorn Torture Metho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 opened up a bag of popcorn in the front of the classroom, the smell would reach the back very quick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because the high energy of the smell/gas allows it to travel or diffuse quic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ain, the empty space of a gas allows for this movement of molecules past one another until they fill the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all gases diffuse at the same rate, this depends 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the molecu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 the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Particles exert pressure by colliding with objects in their 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 of 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isions makes 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the pressure th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ex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5" descr="C:\My Documents\Units\pics\gas pressure.gif"/>
          <p:cNvPicPr/>
          <p:nvPr/>
        </p:nvPicPr>
        <p:blipFill>
          <a:blip r:embed="rId1"/>
          <a:srcRect l="11266" t="11556" r="11266" b="28003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sure is defined as a force per unit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= F/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t’s Gettin’ Hot in Here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higher the temperature of a gas, the higher the pressure the gas ex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the temperature, the lower th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kind of relationship is thi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co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face ten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al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z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por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en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oyant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imedes’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cal’s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 Little Logic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e temperature is defined as the average kinetic energy of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higher the temperature, the more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re energy, the more impacts of gas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re impacts/collisions of gas molecules, the more pressure is exe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Variab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order to describe a gas sample, you must be aware of 4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unt of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Amount of a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ress variably as (n), meaning the number of moles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ole of gas is 6.02 x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mass to moles, you just divide by the molar mass of th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olume of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ed variably as (V), and is measured in liters (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might be problems that call for cubic meters…know this rat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0 L = 1 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 of G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mperature of a gas is represented variably as (T) and is measured in Kelvin (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vert from Celsius to Kelvin, simply add 273 to your Celsius measur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 of a Ga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sure of a gas is the force exerted on the wall of the container the gas is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represented variably as (P) and is measured in three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es (a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llimeters of Mercury (mmH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lopascals (K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P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Temperature and 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mperature = 0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 or 273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ure = 1 atm, 760 mmHg, or 101.3 KP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as Law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ill discuss a few gas laws…you need to know them, and be able to calculate with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le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les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ssac’s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029200" y="2793960"/>
            <a:ext cx="3886200" cy="1028880"/>
          </a:xfrm>
          <a:prstGeom prst="rect">
            <a:avLst/>
          </a:prstGeom>
          <a:solidFill>
            <a:srgbClr val="000000"/>
          </a:solidFill>
          <a:ln w="50760">
            <a:solidFill>
              <a:srgbClr val="ff0066"/>
            </a:solidFill>
            <a:miter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= P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5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13"/>
          <p:cNvGrpSpPr/>
          <p:nvPr/>
        </p:nvGrpSpPr>
        <p:grpSpPr>
          <a:xfrm>
            <a:off x="4991040" y="4114800"/>
            <a:ext cx="4191120" cy="2209680"/>
            <a:chOff x="4991040" y="4114800"/>
            <a:chExt cx="4191120" cy="2209680"/>
          </a:xfrm>
        </p:grpSpPr>
        <p:sp>
          <p:nvSpPr>
            <p:cNvPr id="161" name="Rectangle 7"/>
            <p:cNvSpPr/>
            <p:nvPr/>
          </p:nvSpPr>
          <p:spPr>
            <a:xfrm>
              <a:off x="4991040" y="4114800"/>
              <a:ext cx="4191120" cy="220968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"/>
            <p:cNvSpPr/>
            <p:nvPr/>
          </p:nvSpPr>
          <p:spPr>
            <a:xfrm>
              <a:off x="5143680" y="429264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V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5143680" y="518148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9"/>
            <p:cNvSpPr/>
            <p:nvPr/>
          </p:nvSpPr>
          <p:spPr>
            <a:xfrm>
              <a:off x="5600880" y="525780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7353360" y="525780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6515280" y="472428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392040" y="4727520"/>
            <a:ext cx="4191120" cy="2209680"/>
            <a:chOff x="392040" y="4727520"/>
            <a:chExt cx="4191120" cy="2209680"/>
          </a:xfrm>
        </p:grpSpPr>
        <p:sp>
          <p:nvSpPr>
            <p:cNvPr id="168" name="Rectangle 7"/>
            <p:cNvSpPr/>
            <p:nvPr/>
          </p:nvSpPr>
          <p:spPr>
            <a:xfrm>
              <a:off x="392040" y="4727520"/>
              <a:ext cx="4191120" cy="220968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0066"/>
              </a:solidFill>
              <a:miter/>
            </a:ln>
            <a:effectLst>
              <a:outerShdw dist="53966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8"/>
            <p:cNvSpPr/>
            <p:nvPr/>
          </p:nvSpPr>
          <p:spPr>
            <a:xfrm>
              <a:off x="544680" y="490536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P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9"/>
            <p:cNvSpPr/>
            <p:nvPr/>
          </p:nvSpPr>
          <p:spPr>
            <a:xfrm>
              <a:off x="544680" y="5794200"/>
              <a:ext cx="3886200" cy="10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      T</a:t>
              </a:r>
              <a:r>
                <a:rPr b="0" lang="en-US" sz="5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1001880" y="587052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11"/>
            <p:cNvSpPr/>
            <p:nvPr/>
          </p:nvSpPr>
          <p:spPr>
            <a:xfrm>
              <a:off x="2754360" y="5870520"/>
              <a:ext cx="1066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1916280" y="5337000"/>
              <a:ext cx="990360" cy="9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endParaRPr b="0" lang="en-US" sz="5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74" name="Straight Arrow Connector 19"/>
          <p:cNvCxnSpPr/>
          <p:nvPr/>
        </p:nvCxnSpPr>
        <p:spPr>
          <a:xfrm>
            <a:off x="3287880" y="3276360"/>
            <a:ext cx="158976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75" name="Straight Arrow Connector 20"/>
          <p:cNvCxnSpPr/>
          <p:nvPr/>
        </p:nvCxnSpPr>
        <p:spPr>
          <a:xfrm>
            <a:off x="3553920" y="3885840"/>
            <a:ext cx="1856520" cy="61020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76" name="Down Arrow 22"/>
          <p:cNvSpPr/>
          <p:nvPr/>
        </p:nvSpPr>
        <p:spPr>
          <a:xfrm>
            <a:off x="3821040" y="4495680"/>
            <a:ext cx="609840" cy="72396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3399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UELBUBL%5B1%5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volume of 3.0L at 2atm. What is its volume at 4 at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1.5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volume of 3.0L at 1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, what is its volume at 2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? Be sure to convert your temperatures to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3.8 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as has a pressure of 3.0 atm at 1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hat is the pressure at 22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? Be sure to convert your temperatures to Kelv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: 3.8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energ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bility to do work or make a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ill focus on the ability to make a change 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o work comes after the holid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associated with motion is call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ce that an object might exert energy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tenti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ldabl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amid F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de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rmal Energ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otal potential and kinetic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s on the amount of energy in a substance as well as how much of a substance is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thermalenergy"/>
          <p:cNvPicPr/>
          <p:nvPr/>
        </p:nvPicPr>
        <p:blipFill>
          <a:blip r:embed="rId1"/>
          <a:stretch/>
        </p:blipFill>
        <p:spPr>
          <a:xfrm>
            <a:off x="4648320" y="1663560"/>
            <a:ext cx="403848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emperatur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verage kinetic energy of a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ifference between temperature and thermal energ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ocean-temperature"/>
          <p:cNvPicPr/>
          <p:nvPr/>
        </p:nvPicPr>
        <p:blipFill>
          <a:blip r:embed="rId1"/>
          <a:stretch/>
        </p:blipFill>
        <p:spPr>
          <a:xfrm>
            <a:off x="809640" y="1600200"/>
            <a:ext cx="33321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e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vement of thermal energy from an object with more kinetic energy to an object with less kinetic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ubstance gains heat, it gets war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substance is cooled, it looses 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ppens to the particles when they are cool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pecific He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mount of energy required to raise the temperature of 1g of a substance by 1 degree Celsi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cover"/>
          <p:cNvPicPr/>
          <p:nvPr/>
        </p:nvPicPr>
        <p:blipFill>
          <a:blip r:embed="rId1"/>
          <a:stretch/>
        </p:blipFill>
        <p:spPr>
          <a:xfrm>
            <a:off x="4726080" y="1600200"/>
            <a:ext cx="3881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face Tens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neven forces acting on the surface of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the liquid to act as though there is a thin film across the su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unseen force allows bugs to float on the surface of a liq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lieve it or not, you can actually float a needle on water due to surface 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rface Tension Lab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: Can you place more drops of water on the surface of a penny than what will simply fit on the face of the penn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drop at a time place water onto the surface of a pen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the surface tension breaks, record the number of drops in the data section of your science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3 times for accu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elt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an object absorbs thermal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crease in thermal energy causes the substance to change from solid to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phous solids do not change like other sol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simply get softer and mold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 figure 10 on page 1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melting"/>
          <p:cNvPicPr/>
          <p:nvPr/>
        </p:nvPicPr>
        <p:blipFill>
          <a:blip r:embed="rId1"/>
          <a:stretch/>
        </p:blipFill>
        <p:spPr>
          <a:xfrm>
            <a:off x="809640" y="1646280"/>
            <a:ext cx="333360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reezing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 substance looses thermal ener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bstance changes from liquid to sol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mperature at which a substance freezes is known a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reez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itedaki"/>
          <p:cNvPicPr/>
          <p:nvPr/>
        </p:nvPicPr>
        <p:blipFill>
          <a:blip r:embed="rId1"/>
          <a:stretch/>
        </p:blipFill>
        <p:spPr>
          <a:xfrm>
            <a:off x="5156280" y="1600200"/>
            <a:ext cx="30207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poriz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a liquid gains thermal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s from a liquid to a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Water boiling into vap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types of vapor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iling- air bubbles form within the liquid and rise to the su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aporation- water at the surface vaporizes, occurs at temperatures below the boiling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porization Dem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will place one drop of rubbing alcohol on the back of your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your science journal, record your observations for the next 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matter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that has mass and takes up 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 me some exampl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ens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ease in thermal energy rearranges the pattern of a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s the gas to turn into liq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5" descr="condensation"/>
          <p:cNvPicPr/>
          <p:nvPr/>
        </p:nvPicPr>
        <p:blipFill>
          <a:blip r:embed="rId1"/>
          <a:stretch/>
        </p:blipFill>
        <p:spPr>
          <a:xfrm>
            <a:off x="4721400" y="1600200"/>
            <a:ext cx="38923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blim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from solid form to a gas state without ever becoming a liqu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room temperature carbon dioxide is a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y Ice is the solid form of carbon di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 room temperature, dry ice instantly turns into a 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800px-DryIceSublimation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to the force exerted on an object divided by the area over which the force is exe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SI Un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ce is measured in Newtons 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is measured in square meters (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fore pressure is N/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r a unit called the Pascal (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tmospheric Pressur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ir around you presses on your with a great force, you are just used to the pressure so you don’t feel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mospheric Pressure on earth is 101.3Pa at sea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equal to 101,000 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pressure enables you to drink from a str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cking on the straw eliminates the air in the stra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ir pressure then pushes the liquid up the straw where there is no longer air pressure pushing down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Using a Stra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17" name="Picture 5" descr="AirPressurePushesDrinkIntoMouth"/>
          <p:cNvPicPr/>
          <p:nvPr/>
        </p:nvPicPr>
        <p:blipFill>
          <a:blip r:embed="rId1"/>
          <a:stretch/>
        </p:blipFill>
        <p:spPr>
          <a:xfrm>
            <a:off x="2604960" y="1600200"/>
            <a:ext cx="39322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n’t you feel the pressure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tmosphere pushes with equal force on the outside of your body as the liquid in your body pushes out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altitude increases, air pressure de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you rise in an airplane or go up a mountain your ears pop. Wh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oyant Forc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upward force that presses against an object being pushed downward by air pressure and we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buoyant force is equal to the combined forces, the object will flo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himedes’ Principle- the buoyant force of an object is equal to the weight of the fluid displaced by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sity of an object is crucial as to whether it will fl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 is mass divided by th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less dense than the fluid will flo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more dense than the fluid will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object that is equally as dense as the fluid will neither sink nor float, but remain in the same position in the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 how do things float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density determines the buoyancy of an object, what two factors must be considered to make an object flo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need to modify these factors to make an object flo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Effects of Volume and Tempera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volume decreases, pressure incr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erature increases, pressure increases al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noulli’s Principle Demo- observe and record in your science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when I place the ping-pong ball on the air cur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if I tilt the air cur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happen if I decrease the air pressu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tates of Matt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 common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d, Liquid,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rar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se-Einstein Condens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ate of matter that occurs when temperature approaches absolute z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cular motion st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sma- found in stars, lightning, and neon l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Common in the universe, but uncommon on ear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hapter Experiment: Build a Bo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into your science te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How does the volume of water displaced by a ship relate to the mass of cargo a ship can carry? Can you create a ship that can float on water and carry car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: Write your own procedures for this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uild-A-Boat Conclus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hip can only carry a certain amount of cargo saf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carry less high-density cargo than high-density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li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ter with a definite shape an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cles are moving in vibration patterns that are not seen by the naked ey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rphous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o definite crystal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rubber, plastic, g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line Sol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arranged in repeated 3-D structures called crys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Sodium Chloride (cube), diamond (pyramidal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examples: Sugars, sand, s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nec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rphous solids are like lemons in a b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ystalline solids are like eggs in a car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is a Liquid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 a definite volume, but no definite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s the shape of any container it is poured i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les move freely and allow shape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iscosit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quid’s resistance to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viscosity means that the liquid is very thick and does not run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mo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viscosity means that the liquid pours eas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18:32:03Z</dcterms:created>
  <dc:creator>Adam's Homepage</dc:creator>
  <dc:description/>
  <dc:language>en-US</dc:language>
  <cp:lastModifiedBy>Adam Goosby</cp:lastModifiedBy>
  <dcterms:modified xsi:type="dcterms:W3CDTF">2013-06-29T17:39:58Z</dcterms:modified>
  <cp:revision>42</cp:revision>
  <dc:subject/>
  <dc:title>Chapter 4</dc:title>
</cp:coreProperties>
</file>